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919-FB4D-4F15-82CB-DDF08AAF3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4FCB-CCAC-4432-AF31-292EC4F27A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xamples of stresses that may cause psychological pai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ommon stereotypes about “mental illness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7ED0-D3D6-4279-A0EF-155E3A7259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ymptoms do you typically associate with Alzheimer disea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72D9-A535-4C2B-825B-1B7CEDC6DC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munication abilities decline, patients might struggle to find the right words or use meaningless wo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communication problems affect family members’ ability to care for a loved one with this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1A10-335C-4B43-BAAB-FB4233B273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with Alzheimer disease eventually become bedridden and die of complications associated with the cond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know anyone who has or had Alzheimer disease? What was life like for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7E6A-D77A-49CD-B2F6-36207693D7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link may be with chromosome 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with previous head trauma are at greater risk for developing Alzheimer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6CE7-99E5-43D3-A9BD-3C3265884F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positive diagnosis made after death? (When lesions can be viewed at the autops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shows loss of neurons and the presence of senile plaques and neurofibrillary t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A4F1-472E-40B9-9ACF-2AF89489E5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community services exist to assist caregiv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fluid intake important for patients with Alzheimer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iagnosis and drug therapy may help slow the progression of Alzheimer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431A-0B96-4615-A2ED-7CBD34328E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oxygen so important to the br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it carried to the br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1F21-3ADB-4AE6-80C6-DA3E1EFE58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inal stages, the patient may experience a stupor and co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are gra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8B25-1BD2-408D-A284-2F09868D85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carotid arteries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ocedure used to open the narrowed carotid arte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FC0F-1614-4EE8-A7E4-8828797A87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 death is irrever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gnosis depends on the degree of damage to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ECAB-7E7D-4CA7-BA83-BDADFD460A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example of an inherited mental disorde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m of trauma might cause a mental dis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0246-BCAF-4206-B780-BDF8F04FA0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njuries might result in dement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B83E-9B05-4E5B-999B-EF7A95873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 head injury, the pati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nable to perform certain cognitive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in an inpatient facility as a result of the trau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9695-7B8C-4B2B-A256-92E8CD73E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be reversed? (Damage to brain cells, which causes dementia, cannot be reversed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apy and training may help patients use the abilities that still re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A37A-50F0-490F-9837-A5CF99F41B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set of alcohol abuse can be gradual or prompted by an acute traumatic ev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stitutes “excessive” use of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cohol a stimulant or a depressa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1373-441F-4615-80B8-21C91ECDB3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body affected by chronic ingestion of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you say to someone who drinks chronically, but denies he or she has a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294C-39CA-4FDB-870D-A04075A323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states, what is the blood alcohol level a legally drunk driver? (.0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drinks would it take to push someone past this threshold? (That depends on the potency of drinks, and the size and weight of the individual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D916-1AE8-40E5-A519-F630C3C51C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A stan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individual therapy invol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pses are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who formerly abuse alcohol must abstain from drinking perman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84CF-FDD3-496B-B9AB-5FE1CB0D7A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 go by a variety of names, i.e., ecstasy is XTC, Adam, and “club dru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classifications is most widely ab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F7B6-3551-442F-B0AD-C49FBBEC25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cause a relapse after treatm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cial factors can be changed to prevent re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6DD3-E26A-479D-8F9A-3F2C73D988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izophrenia will not improve without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BF6F-676E-4AD3-A143-AD52867A6C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assifying mental disorders helpful to clinicians who use the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se classifications be detrimental if mis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8903-C173-46CB-A828-E0AE4B1D36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schizophrenia affect individuals? (Schizophrenia is often very disabling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will have difficulty with normal life situations such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ing their educ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a job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ing appropriately in relation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FF36-3D06-439D-9538-72CB03D526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symptoms usually appear? (It’s rarely seen in children. Most symptoms begin to manifest in the mid to late 20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DF5A-3C79-411D-BCB6-DAB9EA48CA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tient’s speech may become quite bizar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tory, visual, and olfactory (smell) hallucinations are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69EC-78EE-48DF-B799-C23A9BFFBE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ause of schizophrenia? (Unknown; genetic factors are believed to play a substantial part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relatives of schizophrenics are at 10 times greater risk to develop the illn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“projective” psychological t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84A6-3A77-434E-8F83-B4AAEFE38C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oal of treatment? (To help patient establish a better sense of self through personal, social, and work achievement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nosis is moderate if patient follows a prescribed treatment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 dysfunctional family handle a schizophrenic family membe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D1F4-58C8-4D7D-90EE-7B9AB5FFC2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yperactivity and depression coexist? (Y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erson may remain manic for days, weeks, or months before cycling into de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0E6E-A9B1-47F1-A28D-CBB856D5BC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risk of mood disorders higher among close relatives of patients? (Yes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otional or physical trauma may precipitate the onset of the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iteria for diagn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34F5-6713-4DA0-8BBD-BDCD9BCC1C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is sought most often during depressive episo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respond to someone talking of suici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D8CD-7376-4B6A-841D-D85CD2F241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hould antidepressants be used with caution? (They may trigger a manic episod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reatment, patients may need to be protected from self-inj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key to successful treatment? (The prognosis is good with treatment and drug therapy, but compliance is ke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7B11-D0CA-4A0D-842A-F24F81AF7D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major depressive disorders have no history of manic or hypomanic epis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D056-5C3F-4984-89A9-4771814A15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c disorders may be chr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8E74-117B-4DEF-A1C5-0006A7C628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ong do symptoms take to develop? (over a period of day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suicide should be ass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depressive disorder is thought to have a biological basis and a familial patt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D995-B259-47D8-88F0-5B3CF50564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event might trigger a reactive depre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mily history is an important part of the assess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0CFB-B0DC-48EF-85B0-7C6C6E0E6F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best results, drug therapy should be used with psycho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hould electroconvulsive therapy be used? (It may help severely incapacitated people with psychotic featur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atient is suicidal, what community resources would help with interven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19F4-8BFE-44B0-9AE2-F23CFA0B15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roup, anxiety disorders represent the largest mental health problem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xiety disorders may lead to more severe disorders, such as depression and alcoh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xiety disorders were previously known as neu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C68C-D702-4584-B72A-77D33E6E50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 person with generalized anxiety disorder respond to normal stresses such as a traffic j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4CAB-85E6-46D2-9ED4-106928C2E2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nic attacks alway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appening physiologically that may cause symptoms of GA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A69C-D00E-4D25-BFDE-53112DA0EA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 may seem unreal at the time of the panic at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4D92-5B66-434D-BE2D-3F607B4A87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panic disorder different from generalized anxiety disorder? (The onset is more sudden and of greater severity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ymptoms meet the diagnostic criteria? (Four panic episodes within a month; one or more attacks followed by a persistent fear of another attack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you do if you experienced a panic attack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C359-746F-4BB0-A7D3-FBD5754397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some people cope with phobic disorders? (They might arrange their lives to avoid confronting the thing they fea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 phobic disorders usually feel powerless to control or prevent their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93C2-64E3-4B27-911F-3B36C49D44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OCD? (Numerous theories exist, ranging from severe stress to dysfunction in the frontal lobe of the brain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with OCD construct their life events around their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184D-84EC-4920-8960-33E1DBA4A1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ette disorder is classified as a tic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49C5-69CC-4E26-BCB3-816614FEA3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patients with obsessive thoughts feel? (They might feel as if they’ve lost control of their minds, and they experience great anxiet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lsive behaviors are rituals that are performed to relieve a person’s anx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B42D-08C6-4EA7-AFC8-AB85463112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exercise help OC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treatment options might work best to calm anxiety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24D2-B795-4485-895F-7B376DF1C0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PTSD may go to great lengths to avoid being reminded of the painful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ong does PTSD last? (Patients might experience this disorder for weeks, months, or even years after the eve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BF43-157D-418C-822B-346013FC26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, symptoms manifest shortly after the event, but some have a delayed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symptoms stop? (They often disappear spontaneously within 6 month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events might cause PTS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FA3E-CB00-445C-80F5-39F3D12AE3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atural disasters, the greater the threat of death, the more severe the PT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49DB-CAEA-4AC3-ABAA-6015E0536D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repetitive dreams or flashbacks seem to indic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hink the avoidance of stimuli is conscious or unconscious for most people? Wh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1787-A667-4CDA-9387-FB8F96159A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cognitive-behavioral training work well? (It helps patients sort out distorted thought processes and regain a sense of self-control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 with therapy and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99D3-83C1-498F-A263-EA7E009C64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situation might elicit this kind of respon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considered as simply a reflexive defense mechanism designed to protect one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9A6B-6A90-4867-A06F-CD768849CE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lete physical examination helps rule out underlying pathologica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8FDB-D622-4CB0-BE92-11F0003D9D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ong does the disorder last? (It’s usually resolved in a few weeks, particularly when the stressful situation is no longer threatening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nosis varies depending on the intensity of the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FFE6-F195-4A65-8192-EDC6706EF8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tics typically involve the head, and may include the torso and limb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, nature, and number of tics tend to chang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0876-E9FA-4FB4-BA25-184ED93145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re may not be an underlying pathological cause for the pain, it is very real to the pat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BD2C-0B68-4B64-8381-E68401D5A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real extent of the pain and psychological factors at play can be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0CF3-3000-4ABA-B241-8DAE934FA4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respond if you had severe pain, yet exhaustive tests showed no clinical reason to explain the p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3283-7895-4AA2-BDB9-6218FADEBD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with this condition misread their body aches and pains and interpret them as signs of physical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4179-526A-460C-9CF1-921D7E9785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se patients faking the symptoms? (Not really; they really do feel the condition or disease they fea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a diagnosis of hypochondriasis so difficult? ( Because these people often change physicians when their suspected diagnosis is not confirm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C158-F10D-419E-BC69-FEBDAD834D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hink group therapy would be helpful to a person with hypochondria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7E2B-AC8A-4ACF-B1CD-7638D67E70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person simulate symptoms of illness? (They believe they have no other way to get attention except to feign symptom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eople often have extensive knowledge of medical terminology and hospital rout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100F-8F91-40F0-986A-5FC881B359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both Munchausen conditions have in common? (Patients tend to draw attention to themselves by feigning sickness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dividuals are confronted with the facts, they often seek help at another fac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rofessionals believe this condition is untrea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E606-0DBB-4E43-9D07-C91B6D28BD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ross-gender identification is pres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C094-92EC-4230-9CC9-20E639A980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use for these preferences is uncert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respond if your child struggled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DCAA-435E-41BE-A287-1C194361F3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when is the onset of Tourette disorder? (As early as 2 years of age, but it must be before age 18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drome is lifelong in d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FD5B-B1C3-4B3E-A55D-04C50DF1D0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ults will seek to change themselves physically through hormonal or surgical inter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se individuals experience social isolation and low self-e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084B-E4A0-4FA8-9C21-1D53D91AD8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benefits might a support group have for these people and their famil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9E1F-4ABC-4929-80B1-85646AA4CD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leepwalk generally have no memory of the event and may awaken while roam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nightmares occur? (They tend to occur late at nigh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7F0B-5A86-46C9-BD8D-2FA5876449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king the diagnosis, a thorough history should include any drug consump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B7DC-DF80-4DA3-A7FF-7AFFA0498D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eepwalking person should not be interrupted or awak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children outgrow these conditions? (Yes, usuall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F0DA-8C29-4347-AFFC-9F1432429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es narcolepsy strik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what age is the usual onset of narcolepsy? (Usually before age 25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sleep paralysis lasts about one minute, during which time the person is unable to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B87A-BEDE-4384-AFD4-3F3152452D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story of repeated episodes suggests narcoleps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jobs should be avoided by a person with this dis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3A9D-C961-4CFA-BCDA-D8B1E03D65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signs of a personality usually appear? (In adolescence. These disorders should not be diagnosed earlie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922F-A546-454B-B917-3494C68B11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vary by personality disord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ersonality disorders often difficult to treat? (They are so deeply ingrained in the patie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D61C-01A4-4287-9D41-8B1E7E94B8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know anyone who fits the profile of one or more of these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72E1-DEAD-4A7B-B78F-B8F7AAA4C0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 cure for Tourette? (No, but some patients experience a lessening of symptoms as they matur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your reaction be to someone with Touret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AF26-6BB4-4FE3-8980-0C6059D061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can be very manipulative and are known to create conflict so rejection occurs? (Borderl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may be inappropriately seductive? (Histrio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may react with rage or humiliation when criticized? (Narcissis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0350-7E82-442E-BDAC-C0D396EA83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are preoccupied with being judged or criticized by peers? (avoid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want others to make decisions for them? (depend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can be so preoccupied with details of a task that they never finish one? 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(obses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49EE-BBBC-41C6-8E90-2E23FBB25C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auses of personality disorders? (They have been linked to biological, social, and psychodynamic origin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a trusting relationship between therapist and patient so crucial? (Many with personality disorders mistrust and are resistant to therap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with personality disorders do not respond to drug 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371D-AE83-4D38-949F-B487F60D80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lood flow may also be caused by toxins, metabolic conditions tumors, or other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al wellnes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capacity to cope and adjust to the ongoing stresses of everyday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al illnes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fficulty coping with ongoing, everyday stresses, which results in psychological pain and possibly affects physical h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tal Wellness and Mental Illn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zheimer dise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rogressive degenerative disease of the brain that causes a gradual loss of mental and physical functio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most common cause of dementia and occurs more frequently in adults over 65 years of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st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short-term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bility to concent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irment of rea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le changes in pers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progression contin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skills dec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: Symptom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 st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increasingly dependent for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to outside stimulus decr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emotionally detac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rest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ffers sleep disturb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disorient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hostile/comb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: Cause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use is not known, but it is suspected to be age-related and have a genetic l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ries includ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chemical changes in brain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immun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n with a slow-acting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vessel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ciency of neurochemical factors in the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: Diag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 criteria include evidence of memory and cognitive disturb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isease progresses, neurological examination reveals sensory and motor defic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ter stages, diagnostic studies include brain scans, which can detect atrop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: Treatment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ure is kn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is geared toward management of symptoms and inclu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therapy to help control cognitive decline, anxiety, depression, and de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management of fluid intake, adequate nutrition, and personal hygi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tion against inj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otional support for patient and caregiver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Dement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scular Dement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reduction in blood flow to the brain from narrowed arteries can result in reduced oxygen and nourishment to the brain cells and cause a general loss of intellectual a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Dementia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clude disturbances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ori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lessn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tic tendencies as condition prog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Dementia: Cau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rosclerotic plaque grows in the carotid and cerebral arteries, reducing blood flow to b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tarves the brain for needed oxy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cells die, impairing cognitive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Dementia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crease blood supply to the brain by mean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 (low-dose aspirin, Plavi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intervention to remove plaque from carotid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disorders could be caus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nit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tal Wellness and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tal Illnes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entia caused by head traum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traumatic insult to the head may reduce blood flow to the brain and result in dement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head injuries that could reduce blood flow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nd closed head inj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atomas (localized swelling filled with blood resulting from a break in a blood vess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ull frac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mentia Caused by Head Traum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and neurological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g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ull radiographic fil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T scan of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I scan of brain and cerebral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mentia Caused by Head Trauma: Diagno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intracranial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ir vessel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y and training to retain the remaining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mentia Caused by Head Trauma: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cohol abu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isorder causing physical and psychological dependence through daily and excessive use of alcoholic bever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is often associated with anxiety, depression, insomnia, impotence, and behavior disord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bstance-Related Disorders: Alcohol Abu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(family disruption, violence, accident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t inf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trointestinal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cohol withdrawal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longed use may cau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rhosis of l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creat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pheral neuropat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k of cancer (esophagus, stomach, and part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 tra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cohol Abuse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cohol Abuse: Diag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examination (includes medical hist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test shows high level of an enzyme called gamma-glutamyltransferase or GG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cohol Abuse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6484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ox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 and/or 12-step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(A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buse causes violent nausea and vomiting when alcohol is consu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Drugs of Abu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types of drugs can modify mood or behavior and possibly harm the body when ab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in classifications of drug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mulants (amphetamines, ecstasy, coca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iates (hero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lucinogens (LS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atile substance (inhalants, vap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abanoid (marijuana, ha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roidal (steroi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cription dru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Drugs of Ab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treatment guide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meet individual’s needs and be tailored to drug of ab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should have a medical, psychological, and social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ior therapy and adequate support crucial for recovery and abstin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hizophren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y of a group of psychotic disorders usually characterized by withdrawal from reality, illogical patterns of thinking, delusions, and hallucinations, and accompanied in varying degrees by other emotional, behavioral, or intellectual disturban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disorders are loosely classifi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adaptiv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tal Wellness and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tal Illnes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ed in two way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ve manifestation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xcess or distortion of normal functi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ative manifestation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loss of normal func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: Symptom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4503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organized spe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atonic behavior (bizarre posturing — rig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63640" y="1464840"/>
            <a:ext cx="309420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at affect (no emotional expres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ability to speak (alog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ability to make cho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: Symptom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st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drawal or iso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heveled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s of interest school or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xiety/f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ph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d social and occupational dys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: Diag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logical tests (MMPI and some projective te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scans (PET, FMR, ME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has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psychotic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term multidimensional treatment comb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ive psych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invol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olar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major affective disorder with abnormally intense mood swings from a hyperactive, or manic, state to a depressive syndr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od Disorders: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polar Disorder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manic episo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changes of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al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ssive amount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lsive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usions or auditory hallucination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polar Disorder: Symptom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depressive episo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d or indifferent m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thoughts and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interest in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eep disturb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ings of g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tened or attempted suic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polar Disorder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hium carbonate is the drug of choice during an acute p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kote and Tegretol are add-on drugs that may help stabilize manic epis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depress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to encourage personal responsibility, set goals, and establish li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jor Depressive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or depressive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mood disorder characterized by one or more serious depressive episodes that include deep and persistent sadness, despair, and hopeless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ic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c disord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, recurrent motor movement (facial grimacing, coughing, eye blinking) or vocalizations (repetition of one’s own words, using words out of context or in a socially unacceptable manne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y or heavy feeling in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gue sense of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bl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self-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 disturbance (insomnia or hypersomn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concentration and interest i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withdraw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 Depressiv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order: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and psychological assessments are nee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important to distinguish between reactive depression, which results from a difficult or stressful life experience, and MD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ve mood must be prominent and persistent for a period of at least two weeks with at least four of the previously mentioned symptom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 Depressive Disorder: Diagno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depress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convulsive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support and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 Depressiv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order: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xiety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6484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xiety disor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xiety moves from the realm of “normal” to “abnormal” when it persists and prevents the person from leading a normal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classifications of anxiety disord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ized anxiety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ic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bic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ssive-compulsive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eralized Anxiety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ed anxiety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stant state of anxiety abo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situation-spe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s making decisions or worries about ones that have been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ic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ologic symptoms might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blood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tained muscular ten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bility to sleep; nightmares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eralized Anxiety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order: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nic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nic disor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xiety begins suddenly and unexpectedly, reaching a peak within 10 minu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ttack is often accompanied by a sense of impending doom, “going crazy,” losing control, or dy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nic Disorder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po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pu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ness of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zzi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 fla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obic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obic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rked by excessive, persistent, and irrational fear and the avoidance of phobic stimul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urce of anxiety can be an object or situation, but it poses no actual dang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sessive-compulsive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rked by obsessions (persistent intrusions of unwanted thoughts) and compulsions (uncontrollable urges to carry out certain a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features usually occur together, but not alw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sessive-Compulsiv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order (OCD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urette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urette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multiple motor tics coupled with one or more vocal tics, which can appear simultaneously or at different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known as Gilles de la Tourette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bses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ming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ic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ing immoral sexual 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compul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ssive hand wa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ly checking door 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sessive-Compulsive Disorder: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xation thera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depressants (SSR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ization in severe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sessive-Compulsive Disorder: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TS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elayed response to an external traumatic event that produces symptoms of extreme st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SD differs from other anxiety disorders because the cause of the stress is an external event of an overwhelmingly painful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sttraumatic Stres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order (PTS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TSD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ful recol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ghtm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om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TSD: Cau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SD caused by human actions (rape, acts of war, abuse) tends to precipitate more severe reactions than PTSD caused by natural disasters (hurricanes, floods, earthquak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TSD: Diag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essing recollections of the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urrent dreams and flashb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ance of stimuli associated with the traumatic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arousal (rapid heartbeat, panic) when thinking about or exposed to stimuli related to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TSD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464840"/>
            <a:ext cx="770112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s on restoring individual’s sen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seling (helps victims accept the overwhelming memories instead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h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 (antianxiety, antidepressants, or medications to aid slee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version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sion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anxiety is too difficult to face, it may be unconsciously converted to a physical or somatic symptom to allow the person to escape or avoid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recipitated by a highly stressful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version Disorder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cits in voluntary motor functions (paralysis, tremor, 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symptoms (oversensitivity to pain, touch, or sou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ch disturbances (loss of vo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symptoms (headaches, difficulty swallowing or breathing, choking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version Disorder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urse of the disorder is usually short, and recurrence is comm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urette Disorder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l 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u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or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ce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in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n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nifested by pain that causes significant distress and physical and social impairment to such a degree that it takes control of the person’s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in Disorder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e and lasting pain (can be associated with musculoskeletal disorders, neuropathies, and malignanc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 not intentionally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in Disorder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lying clinical conditions identified and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xation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cotics (if pain relief cannot be achieved any other w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ypochondria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chondria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ar of having a serious disease, even though medical causes cannot be found to substantiate the f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ypochondriasis: Symptom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6484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occupation with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fear of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often described in vague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last more than 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ypochondriasis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person live with symptoms or reframe them in such a way that extreme conclusions are not dra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unchausen Syndrom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nchausen syndrom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dered a factitious disorder; occurs when people simulate symptoms of illness, knowing they are not ill and they seek medical attention as a way to draw attention to themsel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ngering, or the feigning of symptoms for financial or personal gain, is also a factitious dis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nchausen syndrome by prox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arent projects symptoms to the child (usually a preschooler), which stimulates the illness in the child and causes the child to present for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rent denies any knowledge of the actual cause and relates the symptoms to be GI, genitourinary, or something e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nchausen Syndrome by Prox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der Identity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 identity disord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ditions in which individuals feel a powerful connection with the opposite sex and want to be the opposite se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believe their current gender roles are inappropi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occupation with feminine activities (dressing in female clothes, playing with dol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ance of competitive spor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remark they don’t want male genitalia, but rather female gen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der Identity Disorders: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urette Disorder: Diag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motor and vocal tics are present, although not necessarily at the same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s occur several times a day over a period of at least 3 mon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tient has significant impairment in functioning at work or in social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dition is not a result of substance abuse or another medical cond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614240"/>
            <a:ext cx="770112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a dislike for feminine attire and prefer boy-type clothing and short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 boys as playm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age in typically, male sports and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remark they will eventually grow male genitalia and do not want brea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der Identity Disorders: Symptom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53936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(to help individuals either feel more comfortable in their assigned sex or accept the feelings they ha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al or surgical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der Identity Disorders: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asomnia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omnia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group of sleep disorders that include sleepwalking, night terrors, and nightm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somnias usually occur in children early in the 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asomnias: Cause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genetic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al, psychological, and organic fa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tumors or fe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hium and certain other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asomnias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on from injury is primary for the sleepwalking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ing exposure to terror (especially from movies, television, etc.) reduces occurrence of night terr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s can be treated with sleep med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rcoleps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rcoleps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hronic neurological condition in which a person has an irresistible tendency to sleep during the daytime for a few seconds to half an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usually precipitated by sedentary, monotonous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rcolepsy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eutic n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ing a normal night sleep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therapy (daytime stimulant to remain awak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sonality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ity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attern of behavior that deviates from society’s norms and is typically rooted in a person’s thoughts about him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her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produce chronic, ingrained, and maladaptive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dered patterns of relating, thinking, and perce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ocial and occupational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ght appear arrogant, shy, or bl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sonality Disorders: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sonality Disorde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noid personality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trust in others; suspicious others intend to hurt or explo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izoid personality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cking emotional expression of pleasure or pain; seem indifferent and socially detac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izotypal personality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 to schizoid socially, but can have paranoid tendencies; superstitious, believing others have magical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urette Disorder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atients improve with medication (Haldol, clonidine) to manage symptoms and/or produce cal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social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regard others; violates others’ rights, aggressive, no remo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line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table relationships and self-image, fears rejection; prone to be manipulative and to verbal outbu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rionic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ly dramatic; needs to be center of attention; appears immature and dependent and seek approval from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rcissistic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s an absorption with self and lacks empathy for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sonality Disorde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sonality Disorde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ant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s social situations for fear of criticism or disapproval,views self as inept or infe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tern of excessive reliance on others, feels reluctant to disagree for fear of losing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ssive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eme concern with orderliness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s on symptoms of particular disorder, but usually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 (anxiety, depre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 very poor overall due to degree that traits are ingrained into individual’s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sonality Disorders: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ment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ent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rogressive deterioration of mental faculties that causes cognitive dec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eversible brain damage may be the result of compromised blood flow to the brain caused by plaque in the arteries (atherosclerosis), blood clot (thombus), or trau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20:32:14Z</dcterms:created>
  <dc:creator>Gary Gilles</dc:creator>
  <dc:description/>
  <dc:language>en-US</dc:language>
  <cp:lastModifiedBy>Student</cp:lastModifiedBy>
  <dcterms:modified xsi:type="dcterms:W3CDTF">2011-06-16T22:05:27Z</dcterms:modified>
  <cp:revision>120</cp:revision>
  <dc:subject/>
  <dc:title>Slide 1</dc:title>
</cp:coreProperties>
</file>